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16C-0ACA-48BB-A754-59497668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D1F-2499-4B88-84CE-724B5014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620-57BA-4EDA-A993-F1197E11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B8D-0E09-462A-A1AF-5F364EFB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5B48-F31C-456A-82FE-1A3DD58B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C954-0DD2-45D4-B686-FEB3208C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7F9C-3261-44A2-9039-E5EF16F7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7C57-825B-4DA0-96DD-8BF3500B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1B2C-41AE-40B9-A544-B2CA03C5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686C-C389-4AB7-9D7F-1269014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3CFD-AAA4-4A83-BA48-0F40E55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CB0-3650-4763-AAEA-391DA600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8ABB-9896-486F-9702-2AE8C7EF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AB68-0C28-4708-B9AF-A0AE1DD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90AE-5A99-4F16-809D-4A607FC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7676-D946-4D23-94C4-64F5604C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F8DA-BBEF-4CC0-8DB9-8B6469ED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0AF-E232-4AF2-A4EB-0CC70AF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22A-3EE0-4CDF-9C5F-396B1675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51E-7C51-4EDD-A66E-5148CF54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812-EB8F-4927-8CC3-ABB854A0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5AD-3FE8-40D8-9888-6E45539F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4A9-EE25-4AA7-942C-993710E9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6D6-ABAD-4F5B-A9D7-5F8B6FD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BD4A-FE20-49EF-9D12-E13B5AD16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25DC-6D4D-4E23-B7DC-2A46C82C6CD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uffalosoldier.net/Col.JohnMiltonChivingtonL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.3:  Native America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.  Massacre at Sand Creek, Co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ves told to make camp at Sand Creek to make peace de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l. Chiving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8440" indent="-452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attle that was not instigated by N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8440" indent="-452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&gt;100 Cheyenne killed while sleeping; bodies mutil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ivington considered a “hero” back ho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ter discredited by Cong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211572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18132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6" descr="C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33559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.  Indian Peace Commis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oal:  to have natives move onto reserv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nned fail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5716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sured natives into sig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5716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ttlers violated te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2" descr="http://us.history.wisc.edu/hist102/photos/assets/photos/1069.jpg"/>
          <p:cNvPicPr/>
          <p:nvPr/>
        </p:nvPicPr>
        <p:blipFill>
          <a:blip r:embed="rId1"/>
          <a:stretch/>
        </p:blipFill>
        <p:spPr>
          <a:xfrm>
            <a:off x="4572000" y="2562120"/>
            <a:ext cx="446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.  Last Native American Wa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  Battle at Little Bigho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Calvary sent to take lands of Black Hills – found go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er and men overtaken and killed by Crazy Hors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lic outcry = forcing more onto reserv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211572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5" descr="George Armstrong Custer, photographed between 1860 and 1865. Photograph: Library of Congress"/>
          <p:cNvPicPr/>
          <p:nvPr/>
        </p:nvPicPr>
        <p:blipFill>
          <a:blip r:embed="rId1"/>
          <a:stretch/>
        </p:blipFill>
        <p:spPr>
          <a:xfrm>
            <a:off x="6781680" y="1905120"/>
            <a:ext cx="2113200" cy="2712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external image Chef%20CrazyHorse.JPG"/>
          <p:cNvPicPr/>
          <p:nvPr/>
        </p:nvPicPr>
        <p:blipFill>
          <a:blip r:embed="rId2"/>
          <a:stretch/>
        </p:blipFill>
        <p:spPr>
          <a:xfrm>
            <a:off x="4800600" y="3629160"/>
            <a:ext cx="23065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  Ghost Dance: prohibited by gover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 Return of the buffal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 Restorations of their la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52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  Make the white man disapp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2193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6" descr="ghostdance2"/>
          <p:cNvPicPr/>
          <p:nvPr/>
        </p:nvPicPr>
        <p:blipFill>
          <a:blip r:embed="rId1"/>
          <a:stretch/>
        </p:blipFill>
        <p:spPr>
          <a:xfrm>
            <a:off x="1676520" y="2792520"/>
            <a:ext cx="609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.  Battle of Wounded Kne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ed by the arrest and killing of Sitting Bu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alvary rounded up ghost dancers and took them to Wounded Knee Cam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200 unarmed NA killed and left to free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ought Indian wars to an 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yback for Battle of Little Bigho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895320" y="130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Picture 3" descr="wkneeopeningrem"/>
          <p:cNvPicPr/>
          <p:nvPr/>
        </p:nvPicPr>
        <p:blipFill>
          <a:blip r:embed="rId1"/>
          <a:stretch/>
        </p:blipFill>
        <p:spPr>
          <a:xfrm>
            <a:off x="228600" y="1065240"/>
            <a:ext cx="8610480" cy="5792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3204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Picture 3" descr="bigfoot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9" descr="woundedknee1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7524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3" descr="woundedknee"/>
          <p:cNvPicPr/>
          <p:nvPr/>
        </p:nvPicPr>
        <p:blipFill>
          <a:blip r:embed="rId1"/>
          <a:stretch/>
        </p:blipFill>
        <p:spPr>
          <a:xfrm>
            <a:off x="1066680" y="1143000"/>
            <a:ext cx="7358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.  Dawes Ac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“Americanize” NA by teaching them that owning land and farming was “right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Reservation land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istributed to head of household; 160 acr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nds left over sold to settl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lost &gt;2/3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their l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buffalo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.  Assimil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giving up their beliefs and way of life and become part of the white cul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4" descr="Carlisle[1] (2)"/>
          <p:cNvPicPr/>
          <p:nvPr/>
        </p:nvPicPr>
        <p:blipFill>
          <a:blip r:embed="rId1"/>
          <a:stretch/>
        </p:blipFill>
        <p:spPr>
          <a:xfrm>
            <a:off x="990720" y="3429000"/>
            <a:ext cx="5105160" cy="2948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Image 1.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5280" y="3200400"/>
            <a:ext cx="2239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.  Dawes Act Lega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iled to assimilate the nat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ives became completely dependent on gov’t for necess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until Pres. Franklin Roosevelt do natives get to control their own land (1934 w/Indian Reorganization Ac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Indians on Horseback"/>
          <p:cNvPicPr/>
          <p:nvPr/>
        </p:nvPicPr>
        <p:blipFill>
          <a:blip r:embed="rId1"/>
          <a:stretch/>
        </p:blipFill>
        <p:spPr>
          <a:xfrm>
            <a:off x="1981080" y="1676520"/>
            <a:ext cx="5829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Buffalo Bones"/>
          <p:cNvPicPr/>
          <p:nvPr/>
        </p:nvPicPr>
        <p:blipFill>
          <a:blip r:embed="rId1"/>
          <a:stretch/>
        </p:blipFill>
        <p:spPr>
          <a:xfrm>
            <a:off x="0" y="2322360"/>
            <a:ext cx="4648320" cy="3424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.  Settlers and the Buffal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5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77920" y="2133360"/>
            <a:ext cx="4365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ill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y hunters for h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y RR 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spo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  Helped gov’t push Natives onto reserv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.  Family Lif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 Native Americans have communal grou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or relating to a commun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4" descr="Bird's Eye View of Sioux Camp at Pine Ridge"/>
          <p:cNvPicPr/>
          <p:nvPr/>
        </p:nvPicPr>
        <p:blipFill>
          <a:blip r:embed="rId1"/>
          <a:stretch/>
        </p:blipFill>
        <p:spPr>
          <a:xfrm>
            <a:off x="1523880" y="3276720"/>
            <a:ext cx="64008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wpl_rog22"/>
          <p:cNvPicPr/>
          <p:nvPr/>
        </p:nvPicPr>
        <p:blipFill>
          <a:blip r:embed="rId1"/>
          <a:stretch/>
        </p:blipFill>
        <p:spPr>
          <a:xfrm>
            <a:off x="1371600" y="2057400"/>
            <a:ext cx="6858000" cy="4275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using and Lifesty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hoto of Native Americans"/>
          <p:cNvPicPr/>
          <p:nvPr/>
        </p:nvPicPr>
        <p:blipFill>
          <a:blip r:embed="rId1"/>
          <a:stretch/>
        </p:blipFill>
        <p:spPr>
          <a:xfrm>
            <a:off x="2125800" y="1692360"/>
            <a:ext cx="4892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 of Native Americans"/>
          <p:cNvPicPr/>
          <p:nvPr/>
        </p:nvPicPr>
        <p:blipFill>
          <a:blip r:embed="rId1"/>
          <a:stretch/>
        </p:blipFill>
        <p:spPr>
          <a:xfrm>
            <a:off x="2944800" y="1066680"/>
            <a:ext cx="35244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hoto of Native Americans"/>
          <p:cNvPicPr/>
          <p:nvPr/>
        </p:nvPicPr>
        <p:blipFill>
          <a:blip r:embed="rId1"/>
          <a:stretch/>
        </p:blipFill>
        <p:spPr>
          <a:xfrm>
            <a:off x="2103480" y="1954080"/>
            <a:ext cx="493704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merican Perspective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ttling “Unsettled” lan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211572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5" descr="wpl_rog22"/>
          <p:cNvPicPr/>
          <p:nvPr/>
        </p:nvPicPr>
        <p:blipFill>
          <a:blip r:embed="rId1"/>
          <a:stretch/>
        </p:blipFill>
        <p:spPr>
          <a:xfrm>
            <a:off x="1143000" y="2362320"/>
            <a:ext cx="68580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27T20:05:06Z</dcterms:modified>
  <cp:revision>10</cp:revision>
  <dc:subject/>
  <dc:title>PowerPoint Presentation</dc:title>
</cp:coreProperties>
</file>